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1C47-56DF-4F79-8418-9E531BB0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C45-2432-4BF0-837E-62AB43E8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377-7DD6-4974-81E1-EB63589B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59E-E7ED-497E-BF1F-9CFFF911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9022-9AB3-4FD9-A165-F9305CF9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B13F-1A5E-4843-8FE9-10C6FB07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0DC9-DFCD-4F02-8DB0-D44052C5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9161-525C-4FC0-97F3-1CF3D9D3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A9A8-016E-4A4F-B013-80BFEB88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58FE-B652-4C90-A345-C49207BA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6C7B-E095-4687-B384-16BA2BED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133-D47F-47E6-B817-953FDBC0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6E2D-4B6D-4551-80B1-1CA902D4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1482-0BD6-45FB-9A1B-1EE91C83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FE10-49BC-43F6-B0AD-6B2148DC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EF8C-FCCF-4273-B057-7241C0EF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12F8-3469-416C-A2EB-CAB26EE9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066-5E1A-4110-9F59-05E6B82A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A775-7F37-4766-9A35-418DF712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E49-2BF7-4BF1-A959-6ABA0961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564-3144-408A-A35F-F9536762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6A0-E11F-4324-AA47-3EF6BBE9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30B-4415-4D59-93A8-D4D45BB6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3209-5EA7-4F66-916A-E25927C5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A538-6A00-40A5-B35F-53F918EAA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8F7D-FC04-4DCC-B91C-E3D7DEACB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American Typewriter Condensed"/>
              </a:rPr>
              <a:t>Tropopause </a:t>
            </a:r>
            <a:br>
              <a:rPr sz="3600"/>
            </a:br>
            <a:r>
              <a:rPr b="1" lang="en-US" sz="3200" spc="-1" strike="noStrike">
                <a:solidFill>
                  <a:srgbClr val="996600"/>
                </a:solidFill>
                <a:latin typeface="American Typewriter Condensed"/>
              </a:rPr>
              <a:t>Boundary between the stratosphere and troposphere where the temperature stops dececreasing.</a:t>
            </a:r>
            <a:endParaRPr b="1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315200" cy="2955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609960" y="640404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 Condensed"/>
              </a:rPr>
              <a:t>CHANEL EL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6:35:32Z</dcterms:created>
  <dc:creator>PA Department of Education</dc:creator>
  <dc:description/>
  <dc:language>en-US</dc:language>
  <cp:lastModifiedBy>PA Department of Education</cp:lastModifiedBy>
  <dcterms:modified xsi:type="dcterms:W3CDTF">2009-05-13T16:44:03Z</dcterms:modified>
  <cp:revision>1</cp:revision>
  <dc:subject/>
  <dc:title>PowerPoint Presentation</dc:title>
</cp:coreProperties>
</file>